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F75-CDAE-4614-B7A5-2BA0A600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B37-451D-414F-BE1F-B153C59B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43D-C789-4406-929B-971C2DBA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926-E315-4E2F-B742-CFC79073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49E-D111-468C-BE1C-353131FA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9D6-05A1-4200-9D3C-35BC66FD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347-6EC8-4747-A891-66A2E19E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567-DBC8-4187-B1D8-6B5A7048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996-2DB3-4B8A-A785-76BDB75E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36C-8F07-4CE8-AD75-5B1AFFD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FBF-91E5-4D9E-AAA7-8704A0CF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C3A-3761-4D99-9E33-507CF729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5951-4D31-4C6D-AD71-20C5F106F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rases and Cla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ast word of the phrase is the MAIN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s that precede, come before, the main verb are AUXILLIARIES or AUXILLIARY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been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cooking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crawling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expression lik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erb phrase is incomplete and said to be ELLIPT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(b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(had)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birthday)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Arial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ay; might; can; could; will; would; shall; should; must; ought;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can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ight arriv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omor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ust have lost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my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Finite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omebod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speaks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peak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ention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Mention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…….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to the difference is to do with an important distinction within the functioning of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can function independently as communications with an adressee (ie, telling us someth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declarativ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d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do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have a subject and a verb;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need not have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every chair’ but not ‘every hot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noun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un head may have a determiner, while adjective heads cannot have a determi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modifying the adjective are called INTENS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terribly hot’ but not terribly chair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ome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Terrib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ar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difficul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ions in which nouns form the principal or main element (e.g. a chair, the university, my car) are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can be plural; while adjectives cannot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990099"/>
                </a:solidFill>
                <a:latin typeface="Arial"/>
              </a:rPr>
              <a:t>hungrie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not possible as a sentenc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entence patter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lready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yesterday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counsellors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seem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very determine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is week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s work is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keep th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n is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ury found her innocent after two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might send me an in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ordination and co-ord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IMPLE sentence consists of on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s can be combined to make COMPLEX sentences: ie, sentences with more than one cl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ways in which clauses in simple sentences can be combi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-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lause equ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. The man shot his horse (and) (he) took the carcass to the glue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clauses equal st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lause is involved within the structure 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The gir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ho was drinking a glass of win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e a red dres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in element of the phrase is the noun, called the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n be preceded by a subsidiary element called the MODIF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ers often determ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types of modifier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larg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ouse; a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cruel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eception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valuabl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– so that a phrase may have two nouns, one acting as the head and the other as a modifier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a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ducation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olicy; th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hous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lans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furnitur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atalo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 phrases can also have modifying elements coming after the head: called Post-modifi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me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outs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peopl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x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noun phrase begins with a preposition, then it is known as a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E.g. By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e dog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to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your employer;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ith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ose co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two elem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ITIATING element: ie, the preposition itself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MPL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occur or come after the head of a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n as post-modifiers of the head.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letter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o your employer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administration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f the schools.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Verb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‘verb’ element in a clause need not necessarily be just a single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ade up of several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been cook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were crawl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disappea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05:27Z</dcterms:created>
  <dc:creator>student</dc:creator>
  <dc:description/>
  <dc:language>en-US</dc:language>
  <cp:lastModifiedBy>foxra</cp:lastModifiedBy>
  <dcterms:modified xsi:type="dcterms:W3CDTF">2009-02-17T16:25:43Z</dcterms:modified>
  <cp:revision>7</cp:revision>
  <dc:subject/>
  <dc:title>Phrases and Clauses </dc:title>
</cp:coreProperties>
</file>